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24B04-4C74-4632-912A-05E0F3A93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CA526-4CA5-4A64-8931-977A34C94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B4D93-11CC-4702-8DB6-1F011E3D2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CEAD0-2F25-40D6-933E-80FC772DD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8708F-B829-4082-AA17-52860BCB2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54962-3B97-4772-A9C0-DA7BAA221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75C07-1C24-4214-83B5-B3137C695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85A89-C7A2-4A5B-A1F0-E6E3E952D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A614E-54D9-4CE6-8A5B-552794186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1202D-1825-4679-8D7F-98B3CA87A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CB672-F249-430C-9123-882DFF509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81625-C70B-4738-921B-DC8B75B56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6B084-EF44-4C49-B8A3-C385C381C98C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3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5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7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9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1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3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9"/>
              <a:gd name="adj2" fmla="val 49994"/>
              <a:gd name="adj3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5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4"/>
              <a:gd name="adj2" fmla="val 49994"/>
              <a:gd name="adj3" fmla="val 499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7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50000"/>
              <a:gd name="adj2" fmla="val 49994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00:13Z</dcterms:created>
  <dc:creator>tb121644</dc:creator>
  <dc:description/>
  <dc:language>en-US</dc:language>
  <cp:lastModifiedBy>tb121644</cp:lastModifiedBy>
  <dcterms:modified xsi:type="dcterms:W3CDTF">2005-05-25T09:04:25Z</dcterms:modified>
  <cp:revision>2</cp:revision>
  <dc:subject/>
  <dc:title>Slide 1</dc:title>
</cp:coreProperties>
</file>